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616-F824-4173-8C2C-BB847C2D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9A1-6AB6-41D8-B54A-0EFD6079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42B-068C-4002-9657-74920764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A52-5B33-4889-BD5F-750A3E6A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B36-3704-4ED0-880B-571F941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009-B7A4-4B7A-A192-920D18A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9A9-4E9D-46DB-A365-15823B62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586-FCE8-4056-BBE7-C20EC2FA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15E-1242-4E66-9187-FE4444DC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28A-4479-4D26-8E9E-1DA9ECE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4BC-04DF-4FC6-AFF9-7D58E66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5B6-CF9D-47A6-8632-CD2A2701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59FC-9D56-41CB-B606-654257B0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7956720" cy="516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956720" y="3860640"/>
            <a:ext cx="1187280" cy="13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7956720" y="5229360"/>
            <a:ext cx="1187280" cy="76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7956720" y="2565360"/>
            <a:ext cx="118728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956720" y="1700280"/>
            <a:ext cx="1187280" cy="93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0"/>
            <a:ext cx="85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DE REFORZAMIENTO DE 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BOISSIERI HENRIQ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516640"/>
            <a:ext cx="35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LARA BODAS SÁ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STER R.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TAUR. DE POB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RIS BOISSI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4465" t="37362" r="27265" b="15802"/>
          <a:stretch/>
        </p:blipFill>
        <p:spPr>
          <a:xfrm>
            <a:off x="4284720" y="1844640"/>
            <a:ext cx="485928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348000" y="3933720"/>
            <a:ext cx="4392720" cy="292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27530" t="35335" r="57000" b="19291"/>
          <a:stretch/>
        </p:blipFill>
        <p:spPr>
          <a:xfrm>
            <a:off x="0" y="1413000"/>
            <a:ext cx="3340080" cy="544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78380" t="34006" r="4308" b="43538"/>
          <a:stretch/>
        </p:blipFill>
        <p:spPr>
          <a:xfrm>
            <a:off x="6651720" y="0"/>
            <a:ext cx="2492280" cy="180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724880" y="5805360"/>
            <a:ext cx="1419120" cy="105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3597" t="0" r="27552" b="23300"/>
          <a:stretch/>
        </p:blipFill>
        <p:spPr>
          <a:xfrm>
            <a:off x="5435640" y="3068640"/>
            <a:ext cx="371484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3597" t="0" r="27552" b="23300"/>
          <a:stretch/>
        </p:blipFill>
        <p:spPr>
          <a:xfrm>
            <a:off x="0" y="3068640"/>
            <a:ext cx="3714840" cy="3789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23597" t="0" r="27552" b="23300"/>
          <a:stretch/>
        </p:blipFill>
        <p:spPr>
          <a:xfrm>
            <a:off x="2627280" y="3716280"/>
            <a:ext cx="3079800" cy="3141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3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rcRect l="2186" t="36102" r="0" b="44355"/>
          <a:stretch/>
        </p:blipFill>
        <p:spPr>
          <a:xfrm>
            <a:off x="179280" y="981000"/>
            <a:ext cx="896472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789360"/>
            <a:ext cx="864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ECCIO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mbio en el uso del suelo: ABANDONO PASTO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E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TA RECALCITRANTE EN CUANTO A MULTI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4221000"/>
            <a:ext cx="287280" cy="336600"/>
          </a:xfrm>
          <a:custGeom>
            <a:avLst/>
            <a:gdLst/>
            <a:ahLst/>
            <a:rect l="l" t="t" r="r" b="b"/>
            <a:pathLst>
              <a:path w="227" h="393">
                <a:moveTo>
                  <a:pt x="0" y="182"/>
                </a:moveTo>
                <a:cubicBezTo>
                  <a:pt x="26" y="287"/>
                  <a:pt x="53" y="393"/>
                  <a:pt x="91" y="363"/>
                </a:cubicBezTo>
                <a:cubicBezTo>
                  <a:pt x="129" y="333"/>
                  <a:pt x="204" y="53"/>
                  <a:pt x="227" y="0"/>
                </a:cubicBezTo>
              </a:path>
            </a:pathLst>
          </a:custGeom>
          <a:noFill/>
          <a:ln w="507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8000" y="5229360"/>
            <a:ext cx="289080" cy="336240"/>
          </a:xfrm>
          <a:custGeom>
            <a:avLst/>
            <a:gdLst/>
            <a:ahLst/>
            <a:rect l="l" t="t" r="r" b="b"/>
            <a:pathLst>
              <a:path w="227" h="393">
                <a:moveTo>
                  <a:pt x="0" y="182"/>
                </a:moveTo>
                <a:cubicBezTo>
                  <a:pt x="26" y="287"/>
                  <a:pt x="53" y="393"/>
                  <a:pt x="91" y="363"/>
                </a:cubicBezTo>
                <a:cubicBezTo>
                  <a:pt x="129" y="333"/>
                  <a:pt x="204" y="53"/>
                  <a:pt x="227" y="0"/>
                </a:cubicBezTo>
              </a:path>
            </a:pathLst>
          </a:custGeom>
          <a:noFill/>
          <a:ln w="507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944640"/>
            <a:ext cx="9144000" cy="594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S DEL PLAN DE RESTAU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81000"/>
            <a:ext cx="8028000" cy="459720"/>
          </a:xfrm>
          <a:prstGeom prst="rect">
            <a:avLst/>
          </a:prstGeom>
          <a:gradFill rotWithShape="0">
            <a:gsLst>
              <a:gs pos="0">
                <a:srgbClr val="87a2a4"/>
              </a:gs>
              <a:gs pos="50000">
                <a:srgbClr val="bbe0e3"/>
              </a:gs>
              <a:gs pos="100000">
                <a:srgbClr val="87a2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1: Reforz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773360"/>
            <a:ext cx="7632720" cy="825480"/>
          </a:xfrm>
          <a:prstGeom prst="rect">
            <a:avLst/>
          </a:prstGeom>
          <a:gradFill rotWithShape="0">
            <a:gsLst>
              <a:gs pos="0">
                <a:srgbClr val="a5c6c9"/>
              </a:gs>
              <a:gs pos="50000">
                <a:srgbClr val="bbe0e3"/>
              </a:gs>
              <a:gs pos="100000">
                <a:srgbClr val="a5c6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2: Investigación sobre las causas que dificultan la multiplicación in situ y ex s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781360"/>
            <a:ext cx="727236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e2f1f2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3: Divulgación y conci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573360"/>
            <a:ext cx="6912000" cy="459720"/>
          </a:xfrm>
          <a:prstGeom prst="rect">
            <a:avLst/>
          </a:prstGeom>
          <a:gradFill rotWithShape="0">
            <a:gsLst>
              <a:gs pos="0">
                <a:srgbClr val="708688"/>
              </a:gs>
              <a:gs pos="50000">
                <a:srgbClr val="bbe0e3"/>
              </a:gs>
              <a:gs pos="100000">
                <a:srgbClr val="7086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4: Monitoreo y segu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94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 1: REFORZAMIENTO-ACT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2186" t="45871" r="62479" b="49508"/>
          <a:stretch/>
        </p:blipFill>
        <p:spPr>
          <a:xfrm>
            <a:off x="395280" y="1773360"/>
            <a:ext cx="3238560" cy="64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rcRect l="2186" t="36122" r="62479" b="59252"/>
          <a:stretch/>
        </p:blipFill>
        <p:spPr>
          <a:xfrm>
            <a:off x="395280" y="1052640"/>
            <a:ext cx="3238560" cy="647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708360" y="1413000"/>
            <a:ext cx="5004000" cy="703800"/>
          </a:xfrm>
          <a:prstGeom prst="rect">
            <a:avLst/>
          </a:prstGeom>
          <a:gradFill rotWithShape="0">
            <a:gsLst>
              <a:gs pos="0">
                <a:srgbClr val="bfe6b8"/>
              </a:gs>
              <a:gs pos="50000">
                <a:srgbClr val="ffffcc"/>
              </a:gs>
              <a:gs pos="100000">
                <a:srgbClr val="bfe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TIVOS: POBLACIÓN CRÍTICA Y REVER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565360"/>
            <a:ext cx="8424720" cy="20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JETIVO GENERAL DEL REFORZAMIENTO: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r el número de individuos de la población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ris boissie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ntro de los límites de la zona LIC de Courel, en un área de un kilómetro alrededor de los individuos existentes para aumentar su resiliencia a factores externos y lleguen a ser autosostenibles a medio – largo plazo con gestión mínim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05200"/>
            <a:ext cx="8353440" cy="1608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S CUANTIFICABLES DEL REFORZAMIENTO: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Reforzar el núcleo poblacional de Courel de un mínimo de 510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Obtener regeneración natural por vía sexual y asexual en el sexto añ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 1: REFORZAMIENTO-ACT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5373360"/>
            <a:ext cx="8893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10 individuos en tres añ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rantizar la capacidad de restablecer la población con el rango ecológico natural del taxón y sus propias características genétic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907920"/>
          <a:ext cx="9144000" cy="46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s Causas a estudi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acción floración y factores a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acción floración y poliniz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sión endog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tencia de semillas y bul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aspectos de su fe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gradFill rotWithShape="0">
            <a:gsLst>
              <a:gs pos="0">
                <a:srgbClr val="e1fda1"/>
              </a:gs>
              <a:gs pos="50000">
                <a:srgbClr val="ffffcc"/>
              </a:gs>
              <a:gs pos="100000">
                <a:srgbClr val="e1fd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SE 2: INVESTIGACIÓN SOBRE LAS CAUSAS QUE DIFICULTAN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LTIPLICACIÓN IN VIVO E IN VI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5445000"/>
            <a:ext cx="712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STIÓN ADAP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94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ASE 4: MONITOREO Y SEGU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NITOREO DEL REFORZ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SOS ANUALES:Modelización 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cado de bulbos introducidos. </a:t>
            </a:r>
            <a:br>
              <a:rPr sz="20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mento 1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mergencia de las plantas, que ocurrirá 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io de la primaver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mento 2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loración, que ocurrirá en veran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mento 3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ructificación, finales del veran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JETIVOS ALCANZADOS/ CAUSAS DEL FRA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GESTIÓN ADAPT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TRIBUCIÓN ESPA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7956720" cy="516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956720" y="3860640"/>
            <a:ext cx="1187280" cy="13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7956720" y="5229360"/>
            <a:ext cx="1187280" cy="76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7956720" y="2565360"/>
            <a:ext cx="118728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956720" y="1700280"/>
            <a:ext cx="118728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04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5:50:26Z</dcterms:created>
  <dc:creator>-</dc:creator>
  <dc:description/>
  <dc:language>en-US</dc:language>
  <cp:lastModifiedBy>-</cp:lastModifiedBy>
  <dcterms:modified xsi:type="dcterms:W3CDTF">2010-06-16T13:28:04Z</dcterms:modified>
  <cp:revision>13</cp:revision>
  <dc:subject/>
  <dc:title>Diapositiva 1</dc:title>
</cp:coreProperties>
</file>